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F670-CCDA-4988-823F-F09ECD7606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1B9A-168E-4F87-80E7-7614E85D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27F9-BD3E-46F8-AA70-1252E156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A509-EC3B-4375-B4CC-D54E374DD5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A560-2B3A-4CDB-97CE-8BF35C9C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59A4-EA09-4C4E-B686-D92D86E0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E8B8-8B0C-4DC5-8E63-5CD639C7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A460-2D22-460B-A9CD-056138F4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333000"/>
            <a:ext cx="828036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E116-C317-4E88-9F0E-0B808A60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76FE-B2AF-4B0D-A877-194EE5C5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9C992-3A4B-4FDD-B85A-CE275E21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54C88-9ECE-41E0-8A1C-5E9B3A2E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237000"/>
            <a:ext cx="331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www.worldorphanweek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5F7D-FB55-45BE-B822-82F6D3FC8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651640" y="6237360"/>
            <a:ext cx="3000240" cy="479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1620720" cy="103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723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You can help make a difference</a:t>
            </a:r>
            <a:endParaRPr b="0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3888000" cy="263052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95280" y="765000"/>
            <a:ext cx="82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ff"/>
                </a:solidFill>
                <a:latin typeface="Arial"/>
              </a:rPr>
              <a:t>World Orphan Wee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43280" y="3213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1508040" cy="226080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19640" y="1023840"/>
            <a:ext cx="2665440" cy="17924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76360" y="4054320"/>
            <a:ext cx="2367000" cy="15782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435640" y="4149720"/>
            <a:ext cx="2665440" cy="17762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What is ‘WOW’</a:t>
            </a: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ld Orphan We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ime to WOW friends, teachers and family with fun activities whilst raising vital awareness &amp; funds for SOS Children’s Villages</a:t>
            </a:r>
            <a:endParaRPr b="0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3895920" cy="29210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ccff"/>
                </a:solidFill>
                <a:latin typeface="Arial"/>
              </a:rPr>
              <a:t>SOS – what we do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330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amily based approach to long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 care for children who have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orphaned or abandoned a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sult of poverty, disease, war, famine or natural disaster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ren cared for by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S mothers in family home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unique children’s village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25 countries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S is the world’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gest orphan charity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4038840" cy="268920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Arial"/>
              </a:rPr>
              <a:t>How SOS works:</a:t>
            </a: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OS Children’s Village has a nursery school, primary school and medical centre. Many also have secondary schools, vocational centres and social centres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acilities are open to the wider community and provide outreach support to disadvantaged families, and sometimes emergency relief following natural disasters, such as the Pakistan earthquake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48360" y="3716280"/>
            <a:ext cx="3095640" cy="206532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090600" cy="206028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SOS helps children like John: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2040" y="2063880"/>
            <a:ext cx="3603600" cy="32637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356000" y="1341360"/>
            <a:ext cx="44658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year, John was found abandoned, walking along a road, in rural Ghana. He was 6 years old but looked half his age, as he was extremely malnour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was taken to an SOS Children’s Village where he is now part of a loving family, cared for by his SOS mother and loved by his SOS brothers and sis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has grown in confidence and now attends school. He is a happy boy with a bright future ahead of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How you can be part of WOW!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989000"/>
            <a:ext cx="741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570320"/>
            <a:ext cx="8209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Orphan Week is a wonderful opportunity to develop international links with our world wide work, gain an insight into other cultures and feel part of the global commu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achieved in a number of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nsor an SOS Children’s Village &amp; receive annual  news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 how children live in Brazil, South Africa, Ghana, Vietn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Belarus using our downloadable educational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 your general knowledge with our wikipedia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stand the issues facing children in the develo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y watching child interviews on our WOW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64360" y="4437000"/>
            <a:ext cx="13716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How can you raise vital funds?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fun ways to do this, here are just a few ideas: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non-uniform day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a coffee morning or quiz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themed day, with an international flavour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a sponsored spell or penalty shoot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rtwork and hold an exhibition – encourage parent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uy your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86120" cy="384948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More fundraising ideas…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 the whole school in a sponsored virtual challenge: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 the Wall of China’ by doing circuits of the playground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m Lake Malawi’ by doing lengths of the local pool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b Mount Kilimanjaro by walking up the school steps.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038480" cy="363240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55640" y="5445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GB" sz="2500" spc="-1" strike="noStrike">
                <a:solidFill>
                  <a:srgbClr val="00ccff"/>
                </a:solidFill>
                <a:latin typeface="Arial"/>
              </a:rPr>
              <a:t>Anything is possible if everyone plays their part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Your Help is Needed!</a:t>
            </a: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ever you choose to do in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Orphan Week, your help is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and your efforts to raise money and funds are much appreciated.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more orphaned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bandoned children,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John, all over the world.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an help give them </a:t>
            </a:r>
            <a:endParaRPr b="0" lang="en-US" sz="25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family home, food, </a:t>
            </a:r>
            <a:endParaRPr b="0" lang="en-US" sz="25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ducation and a </a:t>
            </a:r>
            <a:endParaRPr b="0" lang="en-US" sz="25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ighter future!</a:t>
            </a:r>
            <a:endParaRPr b="0" lang="en-US" sz="25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27687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20:12:19Z</dcterms:created>
  <dc:creator>Graham Gordon</dc:creator>
  <dc:description/>
  <dc:language>en-US</dc:language>
  <cp:lastModifiedBy>Caroline Baker</cp:lastModifiedBy>
  <dcterms:modified xsi:type="dcterms:W3CDTF">2006-08-15T09:35:35Z</dcterms:modified>
  <cp:revision>43</cp:revision>
  <dc:subject/>
  <dc:title>SOS Children’s Villages UK</dc:title>
</cp:coreProperties>
</file>